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6F46B4-BE57-4125-B29D-ABABB502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3D9F5-9AD2-478E-BE7A-90CAEB54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FA0911-5B58-4C33-8533-93D29D28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CF7716-26B8-4164-87D6-F25F66D5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9E3E3-33BD-43C7-B020-6EB3ABC6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D759F2-D1C4-4241-A396-E2BD1E28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741DEA-04F2-4AD8-9F91-1C79A269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0E4018-62BD-4E9A-AA77-45E32B86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8B1E54-8A13-4969-81FF-C3B4478B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CB6D0-78DB-4C94-AABB-8F71C814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A0EC0-4F88-423C-836B-C833A5CF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FE762-EFFB-4316-AA06-A098D670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3B641-9E3D-4D26-BACD-1B4EF31F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B8069-0E44-4549-8C31-304360E6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A6F92-6C7B-4FF5-8659-4D1C2D36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7EE24-0B4A-453D-B03B-26035328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57B77-3BB3-44B9-97CF-3043F333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378F0-C4BB-4425-A1A8-A3592CC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BEBB7-5526-4CB9-9118-B8DD5DFA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194C8-0E3D-4A15-BD18-D763E93F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C31C9-3AD3-482A-993D-C50A7794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D35A0-3F1C-4CE1-864A-0D20A675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9E1ED-72F1-42A8-9165-B3A2A9C9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3A01F-5FAB-4910-A99C-C0C76E35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D93E3-0BCB-4FDD-9CD5-08D7AEC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CFD87-4AD4-4059-B240-1A124927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4A619-B405-4AC5-92E8-C38F4F8B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F4206-E98F-4DED-9479-1503097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C0AC0-120D-4A73-A0DE-C23F406B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8DFE2-F582-4328-BB3D-C4266BB8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82385-289A-4288-8867-2CA0D06F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DF194-29FA-4FC5-B3BB-4C2C93DA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5E79F-7E47-45D8-A9DE-B14AA3B8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DDE87-022F-4B24-BC65-087BCE56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EC6C6-4B29-48A5-92BF-A16AD49F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A1AD38-7785-46CC-8BEB-0A169072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E145D-7086-4362-B179-22E651B0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FA53B5-FE4F-4E58-A863-E062B8ED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279C5-82B6-4B62-A77F-AFB1E527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4B7E4-1390-48DB-831A-34523978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5E819-A876-462F-8353-E75F033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0726A-2F88-4F68-A01C-B33CCAF9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432A8-09B4-460F-BB22-8B15648B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B7669-1BD7-454C-A0AF-5CFD24C8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76C71-7668-4C15-BBBC-39FF8143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D537C-ABB4-45B3-ABFB-2BB2E70F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1BDB7-1CDF-4904-BCB8-0B8B5D21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01012-BD56-4DFA-9F06-006C1515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169BD-88DF-4E6D-98AF-D9CC1480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882FA-E34C-4866-9339-E1815D1E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F6DAF-1BA5-40B6-9063-04DD3708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B1BD6-13DF-4E2A-8391-F772AD23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1E25B-9F79-426D-82FD-88045B14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3B4C0-3E9C-4E86-93A1-DAF4AEAF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84906-E45C-4B1C-AF17-03ACE6BB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2BC13-4B81-44C9-AF02-22708433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D7726-F10B-43CD-B202-DB18543A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9885F-FAA9-459A-82F5-4D53536D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ACD65-6DDE-474F-845E-289CDE1C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F02C6-11E1-48C5-BC46-576E5300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788D7-AD15-46B0-821A-59AC5A13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1C841-63BA-4C6E-9933-837C3401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83470-F6F3-43DF-8158-C224BE5F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5B870-AF5E-4B2F-8941-42EF6010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34C15-209B-43A1-9775-854DAD6F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A0782-938F-4194-B91D-052D26AA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9F3CE-081D-4111-97FA-3A645E95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5DA48-3872-48C2-B9D0-631292C2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EE174-D220-4701-A761-CF8E7E61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8FDE7-ACC5-4961-9E60-36E1E565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4738B-4A6F-493E-829E-69142B6D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21095-280A-424D-A420-CD7CDE8A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FF5DE1-B7AF-4A71-AD59-6F9A192A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08C09-3E81-4A0C-881C-964C030D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E0D9F-7161-4CFD-8FA9-0E9B013D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36449-5EB8-4FD4-81FB-92219955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49D75B-BF97-4CC4-8910-962F1A68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3913A-B4B9-4598-BF00-448C032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2E0C67-5F9A-4835-BF2B-FA5EF992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89024-806E-4C90-9230-A226D85F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C8431-6A43-4E4D-A618-CADDABED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890C74-0C5D-4D3E-91F5-43CFB6C8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56DCC1-92B7-40CC-A72C-972D10EA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C3A2A7-E948-427B-9E23-0B564BA6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93968B-C35A-4242-BF6C-F69B24E2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F20389-2A67-4467-B87B-77D57BA1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40FE20-F24D-424B-8D46-02493CED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6A73F3-819B-4184-BBC9-3876EC59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7F23B2-CC27-49CC-A80C-2435A801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412873-DE5E-4001-9629-DFD78B9C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7ABEED-9BB2-4931-8E9D-2D35F404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4BFB66-DE9A-4A57-9288-3C5BB2DA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29CE0B-5658-4CCB-9290-F08F342F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15884-BB89-4828-BDB4-475F1226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A79AB1-30B9-4EE0-8FE2-277F0270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38B086-2A3D-480F-A639-562EB02B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7C7C-ECA8-482C-A715-5167BEB840CB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A920-8334-4489-A2F5-04A6C7B56B55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A220-4485-4F9C-B098-5CA087107203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9736-8CAD-4F55-9749-B15BDC7138B9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BE42-BB2B-4C29-B8C5-65E81538CA2C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0AFB-0755-4FB9-94EF-C5EC5D2332F4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A0BE-ECA7-4A53-8136-FFC548CAC7AD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2D3B-3DD7-4E5B-AAD8-5AD67598686D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2400" cy="14702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iuseppe Arcimbol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Giusepp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Arcimbol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Giusepp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cimboldo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as born in Milan in 1527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He painted traditional religious sub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He painted unusual portraits of human heads made up of vegetables, fruit and tree roo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0" name="Picture 2" descr="Portrait"/>
          <p:cNvPicPr/>
          <p:nvPr/>
        </p:nvPicPr>
        <p:blipFill>
          <a:blip r:embed="rId1"/>
          <a:stretch/>
        </p:blipFill>
        <p:spPr>
          <a:xfrm>
            <a:off x="6804000" y="4400640"/>
            <a:ext cx="1285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Giuseppe Arcimboldo Biography With All Details | giuseppe-arcimboldo.org"/>
          <p:cNvPicPr/>
          <p:nvPr/>
        </p:nvPicPr>
        <p:blipFill>
          <a:blip r:embed="rId1"/>
          <a:stretch/>
        </p:blipFill>
        <p:spPr>
          <a:xfrm>
            <a:off x="2600280" y="571680"/>
            <a:ext cx="3943440" cy="5715000"/>
          </a:xfrm>
          <a:prstGeom prst="rect">
            <a:avLst/>
          </a:prstGeom>
          <a:ln w="0">
            <a:noFill/>
          </a:ln>
        </p:spPr>
      </p:pic>
      <p:sp>
        <p:nvSpPr>
          <p:cNvPr id="382" name="Speech Bubble: Oval 1"/>
          <p:cNvSpPr/>
          <p:nvPr/>
        </p:nvSpPr>
        <p:spPr>
          <a:xfrm>
            <a:off x="7093080" y="189000"/>
            <a:ext cx="2016000" cy="2879640"/>
          </a:xfrm>
          <a:prstGeom prst="wedgeEllipseCallout">
            <a:avLst>
              <a:gd name="adj1" fmla="val -175439"/>
              <a:gd name="adj2" fmla="val 4128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hich fruit and vegetables can you s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Giuseppe Arcimboldo, the Renaissance Artist Whose Fruit-Faced Portraits  Inspired the Surrealists | Artsy"/>
          <p:cNvPicPr/>
          <p:nvPr/>
        </p:nvPicPr>
        <p:blipFill>
          <a:blip r:embed="rId1"/>
          <a:stretch/>
        </p:blipFill>
        <p:spPr>
          <a:xfrm>
            <a:off x="2428920" y="428760"/>
            <a:ext cx="4286160" cy="6000480"/>
          </a:xfrm>
          <a:prstGeom prst="rect">
            <a:avLst/>
          </a:prstGeom>
          <a:ln w="0">
            <a:noFill/>
          </a:ln>
        </p:spPr>
      </p:pic>
      <p:sp>
        <p:nvSpPr>
          <p:cNvPr id="384" name="Speech Bubble: Oval 1"/>
          <p:cNvSpPr/>
          <p:nvPr/>
        </p:nvSpPr>
        <p:spPr>
          <a:xfrm>
            <a:off x="7093080" y="189000"/>
            <a:ext cx="2016000" cy="2879640"/>
          </a:xfrm>
          <a:prstGeom prst="wedgeEllipseCallout">
            <a:avLst>
              <a:gd name="adj1" fmla="val -166879"/>
              <a:gd name="adj2" fmla="val 84416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hich fruit and vegetables can you s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Giuseppe Arcimboldo | Italian painter | Britannica"/>
          <p:cNvPicPr/>
          <p:nvPr/>
        </p:nvPicPr>
        <p:blipFill>
          <a:blip r:embed="rId1"/>
          <a:stretch/>
        </p:blipFill>
        <p:spPr>
          <a:xfrm>
            <a:off x="1984320" y="1125360"/>
            <a:ext cx="5175360" cy="3886200"/>
          </a:xfrm>
          <a:prstGeom prst="rect">
            <a:avLst/>
          </a:prstGeom>
          <a:ln w="0">
            <a:noFill/>
          </a:ln>
        </p:spPr>
      </p:pic>
      <p:sp>
        <p:nvSpPr>
          <p:cNvPr id="386" name="Speech Bubble: Oval 1"/>
          <p:cNvSpPr/>
          <p:nvPr/>
        </p:nvSpPr>
        <p:spPr>
          <a:xfrm>
            <a:off x="6875640" y="3284640"/>
            <a:ext cx="2017440" cy="2881080"/>
          </a:xfrm>
          <a:prstGeom prst="wedgeEllipseCallout">
            <a:avLst>
              <a:gd name="adj1" fmla="val -103129"/>
              <a:gd name="adj2" fmla="val -38976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hich fruit and vegetables can you s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Giuseppe Arcimboldo's Peculiar Vegetal Faces Have Delighted for  Centuries—Here Are 3 Things to Know About His 'Autumn' Gourd Portrait"/>
          <p:cNvPicPr/>
          <p:nvPr/>
        </p:nvPicPr>
        <p:blipFill>
          <a:blip r:embed="rId1"/>
          <a:stretch/>
        </p:blipFill>
        <p:spPr>
          <a:xfrm>
            <a:off x="2587680" y="404640"/>
            <a:ext cx="3968640" cy="5882040"/>
          </a:xfrm>
          <a:prstGeom prst="rect">
            <a:avLst/>
          </a:prstGeom>
          <a:ln w="0">
            <a:noFill/>
          </a:ln>
        </p:spPr>
      </p:pic>
      <p:sp>
        <p:nvSpPr>
          <p:cNvPr id="388" name="Speech Bubble: Oval 1"/>
          <p:cNvSpPr/>
          <p:nvPr/>
        </p:nvSpPr>
        <p:spPr>
          <a:xfrm>
            <a:off x="179280" y="333360"/>
            <a:ext cx="2016360" cy="2879640"/>
          </a:xfrm>
          <a:prstGeom prst="wedgeEllipseCallout">
            <a:avLst>
              <a:gd name="adj1" fmla="val 126194"/>
              <a:gd name="adj2" fmla="val 55365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hich fruit and vegetables can you s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Summer Woman by Giuseppe Arcimboldo | Giuseppe arcimboldo, Fruit painting,  Art"/>
          <p:cNvPicPr/>
          <p:nvPr/>
        </p:nvPicPr>
        <p:blipFill>
          <a:blip r:embed="rId1"/>
          <a:stretch/>
        </p:blipFill>
        <p:spPr>
          <a:xfrm>
            <a:off x="2739960" y="777960"/>
            <a:ext cx="3664080" cy="5302080"/>
          </a:xfrm>
          <a:prstGeom prst="rect">
            <a:avLst/>
          </a:prstGeom>
          <a:ln w="0">
            <a:noFill/>
          </a:ln>
        </p:spPr>
      </p:pic>
      <p:sp>
        <p:nvSpPr>
          <p:cNvPr id="390" name="Speech Bubble: Oval 1"/>
          <p:cNvSpPr/>
          <p:nvPr/>
        </p:nvSpPr>
        <p:spPr>
          <a:xfrm>
            <a:off x="468360" y="189000"/>
            <a:ext cx="2016000" cy="2879640"/>
          </a:xfrm>
          <a:prstGeom prst="wedgeEllipseCallout">
            <a:avLst>
              <a:gd name="adj1" fmla="val 130476"/>
              <a:gd name="adj2" fmla="val 20324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hich fruit and vegetables can you s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create a self-portrait using techniques used by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Giusepp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cimboldo . To do this you need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raw a simple outline of your h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a mix of fruit, vegetables and flowers to represent each fea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bright colou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462040" y="1319040"/>
            <a:ext cx="421992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1T10:27:10Z</dcterms:created>
  <dc:creator>Anne</dc:creator>
  <dc:description/>
  <dc:language>en-US</dc:language>
  <cp:lastModifiedBy>anne.pillar@gmail.com</cp:lastModifiedBy>
  <dcterms:modified xsi:type="dcterms:W3CDTF">2023-05-17T13:33:44Z</dcterms:modified>
  <cp:revision>11</cp:revision>
  <dc:subject/>
  <dc:title>Slide 1</dc:title>
</cp:coreProperties>
</file>